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F42B-F3AE-4AE4-8FE0-995E389CE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FCF1-948C-4747-808D-DE9B27034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DBCC-B85D-4C05-B892-46F335FD6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C764-575F-4258-A6D8-36F252CEC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4159-4520-486E-9DAF-75E96FC85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5A1B-4D13-413B-ACE8-004AC2BF0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EFB1-A43F-434C-A961-2B14DED40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75F6-5BE6-4CF7-AF24-5578EBE5F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DD82-F619-458F-AEB1-F659552B1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9D69-130F-4A0F-8CD0-356701C0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036E-6F6A-49BA-851B-FF4978FA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8548-E4AE-48B3-99DF-3CF5AB38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51ABD64-78B6-4F3D-A806-89F2C5C74B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8" name="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808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Economía Urbana y Transpo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I 73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295280" y="3276720"/>
            <a:ext cx="56390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Prof. FRANCISCO J. MARTÍNEZ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Auxiliares: Pedro Donoso y Pedro Ja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E533-ABDD-4241-AD23-F7D83E87E438}" type="slidenum">
              <a:t>1</a:t>
            </a:fld>
          </a:p>
        </p:txBody>
      </p:sp>
    </p:spTree>
  </p:cSld>
  <p:transition spd="med" advTm="15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0800" y="1519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6633"/>
                </a:solidFill>
                <a:latin typeface="Times New Roman"/>
              </a:rPr>
              <a:t>1.5. POLÍTICAS: integrables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2640" y="1447560"/>
            <a:ext cx="7791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Planos regulado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amaño de predio, máx. o mí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densidad de constru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usos permitidos (resid., indust., comerci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altura máxi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ncentivos: subsidios e impues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Sensible a políticas de transpor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Regulación óptima en US&amp;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6EA4-EDAC-4A85-A459-05AE265319E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838080" y="609480"/>
            <a:ext cx="410076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¡Hola..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yo me llamo Tomás 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(el preguntón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8cf4ea"/>
                </a:solidFill>
                <a:latin typeface="Times New Roman"/>
              </a:rPr>
              <a:t>¿Que vamos a ver aquí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F2BA-28A7-4B85-92EA-70379E48CE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6633"/>
                </a:solidFill>
                <a:latin typeface="Times New Roman"/>
              </a:rPr>
              <a:t>Introducción: conteni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523520" y="137160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.  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Descripción general del merc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I. 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Interacción Transporte y Uso del sue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II.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Comportamiento Microeconómico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  del Consumidor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V.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Modelo de Demanda a Corto Plaz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. 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Modelo de Oferta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I.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Modelo de Equilib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II.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El Modelo MUSS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III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. La Aplicación del Mode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3BCE-3955-4AB0-AC56-2E7329590074}" type="slidenum">
              <a:t>3</a:t>
            </a:fld>
          </a:p>
        </p:txBody>
      </p:sp>
    </p:spTree>
  </p:cSld>
  <p:transition spd="med" advTm="18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5400" spc="-1" strike="noStrike">
                <a:solidFill>
                  <a:srgbClr val="8cf4ea"/>
                </a:solidFill>
                <a:latin typeface="Times New Roman"/>
              </a:rPr>
              <a:t>Módulo 1</a:t>
            </a: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9528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Descripción general del mercad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7615-05CE-4946-9F86-7D8698B1117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776160" y="1066680"/>
            <a:ext cx="41007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¿Qué se le puede pedir a estos modelitos urbanos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9825-65F1-4C96-8AFB-013FD68691D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80800" y="1519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6633"/>
                </a:solidFill>
                <a:latin typeface="Times New Roman"/>
              </a:rPr>
              <a:t>1.1. AGENTES: muy variados y completos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33000" y="205740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OS USUAR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HOGARES Y FIRM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INDIVIDUOS - ACTIVIDADES - VIAJ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OS OPERADOR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MERCADO INMOBILIA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RANSPOR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L ES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NORMATIVA, REGULACIONES E INCENTIVOS ECONÓM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29CC-5354-4ED4-9C9C-39951592159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80800" y="1519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6633"/>
                </a:solidFill>
                <a:latin typeface="Times New Roman"/>
              </a:rPr>
              <a:t>1.2. ENFOQUE</a:t>
            </a:r>
            <a:r>
              <a:rPr b="0" lang="es-CL" sz="3600" spc="-1" strike="noStrike">
                <a:solidFill>
                  <a:srgbClr val="ff6633"/>
                </a:solidFill>
                <a:latin typeface="Times New Roman"/>
              </a:rPr>
              <a:t> : microeconómico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42640" y="1447560"/>
            <a:ext cx="7791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Todos los agentes tienen preferencias individuales definidas por su ambient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ero, se pueden agrupar en categorías socioeconomicas homogeneas (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h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as preferencias se definen sobre los atributos de los bienes (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z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os agentes son racionales: máx Ut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63FF-4624-4344-82FA-F5119EDA4A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80800" y="1519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6633"/>
                </a:solidFill>
                <a:latin typeface="Times New Roman"/>
              </a:rPr>
              <a:t>1.3. ATRIBUTOS: múltiples y variados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2640" y="1447560"/>
            <a:ext cx="7791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os atributos son </a:t>
            </a: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múltipl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Describ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la propiedad (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v): </a:t>
            </a:r>
            <a:r>
              <a:rPr b="0" i="1" lang="es-CL" sz="2800" spc="-1" strike="noStrike">
                <a:solidFill>
                  <a:srgbClr val="00ff66"/>
                </a:solidFill>
                <a:latin typeface="Times New Roman"/>
              </a:rPr>
              <a:t>terreno, vivienda, vista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..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la localización (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) :  </a:t>
            </a:r>
            <a:r>
              <a:rPr b="0" i="1" lang="es-CL" sz="2800" spc="-1" strike="noStrike">
                <a:solidFill>
                  <a:srgbClr val="00ff66"/>
                </a:solidFill>
                <a:latin typeface="Times New Roman"/>
              </a:rPr>
              <a:t>barrio, accesibilidad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s-CL" sz="2800" spc="-1" strike="noStrike">
                <a:solidFill>
                  <a:srgbClr val="00ff66"/>
                </a:solidFill>
                <a:latin typeface="Times New Roman"/>
              </a:rPr>
              <a:t>atractivi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Dependen del sistema de transpor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Dependen de la localización: </a:t>
            </a: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externalidades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por economías de aglomeración, ambiente construido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B299-CAD5-48D5-ABBC-700F191DDB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80800" y="1519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6633"/>
                </a:solidFill>
                <a:latin typeface="Times New Roman"/>
              </a:rPr>
              <a:t>1.4. EL MERCADO: especulativo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42640" y="1447560"/>
            <a:ext cx="7791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Bien </a:t>
            </a:r>
            <a:r>
              <a:rPr b="0" i="1" lang="es-CL" sz="3200" spc="-1" strike="noStrike">
                <a:solidFill>
                  <a:srgbClr val="00ff66"/>
                </a:solidFill>
                <a:latin typeface="Times New Roman"/>
              </a:rPr>
              <a:t>cuasi-único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: localización captura las ventajas de localización o externalidad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l bien transado es la </a:t>
            </a:r>
            <a:r>
              <a:rPr b="0" i="1" lang="es-CL" sz="3200" spc="-1" strike="noStrike">
                <a:solidFill>
                  <a:srgbClr val="00ff66"/>
                </a:solidFill>
                <a:latin typeface="Times New Roman"/>
              </a:rPr>
              <a:t>localiz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l método de transacción es el </a:t>
            </a:r>
            <a:r>
              <a:rPr b="0" i="1" lang="es-CL" sz="3200" spc="-1" strike="noStrike">
                <a:solidFill>
                  <a:srgbClr val="00ff66"/>
                </a:solidFill>
                <a:latin typeface="Times New Roman"/>
              </a:rPr>
              <a:t>rem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Todos los agentes </a:t>
            </a: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compiten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por una localización (exepto regulacion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alor de la propiedad o </a:t>
            </a: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renta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consistente con el mercado de rem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Aceptar </a:t>
            </a: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especulación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54D9-ED5E-4E14-B459-2D851177ADA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3T13:57:26Z</dcterms:created>
  <dc:creator/>
  <dc:description/>
  <dc:language>en-US</dc:language>
  <cp:lastModifiedBy>Universidad de Chile</cp:lastModifiedBy>
  <dcterms:modified xsi:type="dcterms:W3CDTF">2001-08-12T17:12:28Z</dcterms:modified>
  <cp:revision>69</cp:revision>
  <dc:subject/>
  <dc:title>General</dc:title>
</cp:coreProperties>
</file>